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584-7534-4237-AAEE-8ED0EE7E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853-A6CB-4F09-B3A7-D5C4811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8E-06D3-4012-9CAC-40DB7A8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6EA-5281-4D98-87A8-E08F1C5E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91A-19BC-4AE4-890E-594AE7E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A32-F06C-4E1F-93B0-EED39AD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EC0-6652-4739-8761-80A462E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A91-C43A-4DE2-B516-19B4A72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E0E-165A-4473-B983-07E16A1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86A-99C3-46EA-B8DA-119C74C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99E-EE80-4BAA-A657-68F86A5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E8A-291A-4982-B7E6-D8B23EB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2A72-BBCA-4E3A-84EE-39D603B0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760" y="2278080"/>
            <a:ext cx="8988480" cy="230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666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letter that stands for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312408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mathematical phrase that uses variables, nu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d operation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dentifying Numerical and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686800" cy="317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514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991720" cy="97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9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33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Writ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8672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60" y="119160"/>
            <a:ext cx="9123480" cy="662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4479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52388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152388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5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71500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400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19720" y="1371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 +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981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514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81952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(4 +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2500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61722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97180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e an explanation of the differences between a variable, a variable expression and a numerical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0:08Z</dcterms:created>
  <dc:creator>Susannah Graham</dc:creator>
  <dc:description/>
  <dc:language>en-US</dc:language>
  <cp:lastModifiedBy>Graham</cp:lastModifiedBy>
  <dcterms:modified xsi:type="dcterms:W3CDTF">2011-08-18T12:53:42Z</dcterms:modified>
  <cp:revision>3</cp:revision>
  <dc:subject/>
  <dc:title>Lesson 1.1 Variables and Expressions</dc:title>
</cp:coreProperties>
</file>